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77A-78B6-4554-B2EF-8D6D4518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64B-0DDB-4D84-97CC-F98F3AF6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293-8893-4F36-A2E3-85B6D213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085-B3A1-4E5B-BDD1-8F16F140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0DB0E-3F70-4684-AAF7-65B6A228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3F268-57AC-4299-90CD-150F9C14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D7CC2-473D-436F-A20B-4F04C180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0E015-1FB3-44EE-9623-BF1C5312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D839D-CEBF-466A-BA7C-D39B6EFA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BA8FA-FA3F-4895-AB13-B4D29C77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25C2F-C209-4D0E-9D3D-3A9BA523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AF8-91DC-4124-A594-516E1E3D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AB5BB-FD6D-4470-B018-4D4E65C1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699BA-01F4-46AA-B545-12C1FBC0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006E3-4746-4803-8374-B367505E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53507-CAB5-4A88-BD1C-E37ABE9E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86748-BF50-4AC4-9794-F56BB005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A78BA-5636-43F0-86E3-60C1EAFE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D8418-C972-44E3-90C0-1BD06CFE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B791-B8AE-4992-85A8-D855A259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02708-0893-4916-9F91-CEC491F5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0478-CA2C-420E-8FB2-2691D530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A53-6483-4D61-B38D-33446B48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A263-3FA4-4B49-89FF-98F01399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A85F-10F7-496C-B98C-1DEA7507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73D1-8C19-458A-8883-22A78DB1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476B-A83A-4F80-A67B-9EAE7B7D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93F3D-2A6D-40CD-9113-46C5D792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2C56-4564-42E0-8DDE-7BEAE5D2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E3F0-E125-48CD-8942-00144956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84848-EB92-4039-AC23-709DC547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9D938-D97A-4ECA-9821-5F2C71A0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80C8E-1F54-407B-9B10-42977121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75E-CD9A-4BBC-9AE9-0D522FCD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FE40CF-FCA2-4B12-9985-21C63A10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10C22A-0B83-41DC-829F-0B163007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7DD8C-9228-40E0-9DA9-83B441A2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5FDA1-7D0D-492A-B931-E9B6C09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D6624-6187-432F-BA25-53BC106B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1F83A-B009-40DD-ACFC-738370D1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40A8E-1D16-466B-83FC-373BAA19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74C83-AADC-4508-9115-52DF2CE1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3D28E-7602-48F1-AEE4-A2A3F2B4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0F7EE-8133-46D4-A24B-FD8CA634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036-BE4D-4F64-8C09-167E9919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B3E57-8DED-493D-AB13-32246D99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7E2FB-D384-40F5-8EE9-36CAF3B9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8D848-3836-485F-9876-A553E819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A2CE7-3ABB-4AB2-B78D-E590264B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17581-BF93-4E75-943D-C7FE2BFF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D1ADA-B8F0-48C5-BB44-5101AD36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8135F-6D96-49DD-AA36-A04B0625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D005F-77AC-4F46-9B87-06FB7DC6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80DC0-671A-4ABB-AC8B-82F9A3EA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72D51-75FC-4B00-B4FC-5CC740B6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4A2-7530-4140-886C-5CB0C4BC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ADFA8-67AA-4DE7-89EB-8BF6EC91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C1AA4-6C6E-4919-8B95-2EC73E51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DCAF4-A157-4CAC-B5CB-9FB83522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6D331-DDCF-48D0-AE2E-F374D861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0AC7A-F8E8-4A4B-A497-62F3AB0A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9A7E0-C665-4487-913C-AD518985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1FAF8-1D52-42C6-ACD0-3D6EA225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F532C-EE2D-4498-971D-4216C044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BFE43-9353-4722-B4F5-9ABF3336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AF044-47D9-42D1-B4D0-E3ABA75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612-B236-4893-ADE6-5C9D6FD3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A2790-B191-4BC2-A3DC-DD875A95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53115-8F5A-4C56-B9DC-5D0F0F2E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195CD-FB56-47EF-8B84-1DEDF689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C01-4370-48CE-A5A6-E3B9286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5D8-ABF9-4D16-9A23-13DE0546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93B1-5813-46C5-995B-63DCE58ACEB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4F78-D138-4FFA-A395-C9EC9C89436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4B2B-0385-4270-A286-C12907217D4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DDE0-B77D-4DBF-8EF2-B7E591E4322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650F-3BB5-462D-8D72-BA3307B08AD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7D15-ADDD-4DD7-9B0B-72A0E330CC3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33160" y="3733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Nancye Duh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Grade 5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75760" cy="1992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5" descr="new mansarad.jpg"/>
          <p:cNvPicPr/>
          <p:nvPr/>
        </p:nvPicPr>
        <p:blipFill>
          <a:blip r:embed="rId2"/>
          <a:stretch/>
        </p:blipFill>
        <p:spPr>
          <a:xfrm>
            <a:off x="1828800" y="1600200"/>
            <a:ext cx="5613480" cy="4210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3" descr="hip_roof.jpg"/>
          <p:cNvPicPr/>
          <p:nvPr/>
        </p:nvPicPr>
        <p:blipFill>
          <a:blip r:embed="rId1"/>
          <a:stretch/>
        </p:blipFill>
        <p:spPr>
          <a:xfrm>
            <a:off x="1143000" y="2438280"/>
            <a:ext cx="6400800" cy="3359160"/>
          </a:xfrm>
          <a:prstGeom prst="rect">
            <a:avLst/>
          </a:prstGeom>
          <a:ln w="0">
            <a:noFill/>
          </a:ln>
        </p:spPr>
      </p:pic>
      <p:pic>
        <p:nvPicPr>
          <p:cNvPr id="257" name="Title 2" descr=""/>
          <p:cNvPicPr/>
          <p:nvPr/>
        </p:nvPicPr>
        <p:blipFill>
          <a:blip r:embed="rId2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Content Placeholder 3" descr="gambrel.jpg"/>
          <p:cNvPicPr/>
          <p:nvPr/>
        </p:nvPicPr>
        <p:blipFill>
          <a:blip r:embed="rId1"/>
          <a:stretch/>
        </p:blipFill>
        <p:spPr>
          <a:xfrm>
            <a:off x="1611360" y="1523880"/>
            <a:ext cx="5921280" cy="4572000"/>
          </a:xfrm>
          <a:prstGeom prst="rect">
            <a:avLst/>
          </a:prstGeom>
          <a:ln w="0">
            <a:noFill/>
          </a:ln>
        </p:spPr>
      </p:pic>
      <p:pic>
        <p:nvPicPr>
          <p:cNvPr id="259" name="Title 2" descr=""/>
          <p:cNvPicPr/>
          <p:nvPr/>
        </p:nvPicPr>
        <p:blipFill>
          <a:blip r:embed="rId2"/>
          <a:stretch/>
        </p:blipFill>
        <p:spPr>
          <a:xfrm>
            <a:off x="255600" y="23760"/>
            <a:ext cx="8632800" cy="1354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ontent Placeholder 3" descr="cable.jpg"/>
          <p:cNvPicPr/>
          <p:nvPr/>
        </p:nvPicPr>
        <p:blipFill>
          <a:blip r:embed="rId1"/>
          <a:stretch/>
        </p:blipFill>
        <p:spPr>
          <a:xfrm>
            <a:off x="2362320" y="2514600"/>
            <a:ext cx="4309920" cy="2928960"/>
          </a:xfrm>
          <a:prstGeom prst="rect">
            <a:avLst/>
          </a:prstGeom>
          <a:ln w="0">
            <a:noFill/>
          </a:ln>
        </p:spPr>
      </p:pic>
      <p:pic>
        <p:nvPicPr>
          <p:cNvPr id="261" name="Title 2" descr=""/>
          <p:cNvPicPr/>
          <p:nvPr/>
        </p:nvPicPr>
        <p:blipFill>
          <a:blip r:embed="rId2"/>
          <a:stretch/>
        </p:blipFill>
        <p:spPr>
          <a:xfrm>
            <a:off x="255600" y="23760"/>
            <a:ext cx="8474040" cy="1354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Content Placeholder 3" descr="flat-roofing-02.jpg"/>
          <p:cNvPicPr/>
          <p:nvPr/>
        </p:nvPicPr>
        <p:blipFill>
          <a:blip r:embed="rId1"/>
          <a:stretch/>
        </p:blipFill>
        <p:spPr>
          <a:xfrm>
            <a:off x="1371600" y="1666800"/>
            <a:ext cx="6400800" cy="4286160"/>
          </a:xfrm>
          <a:prstGeom prst="rect">
            <a:avLst/>
          </a:prstGeom>
          <a:ln w="0">
            <a:noFill/>
          </a:ln>
        </p:spPr>
      </p:pic>
      <p:pic>
        <p:nvPicPr>
          <p:cNvPr id="263" name="Title 2" descr=""/>
          <p:cNvPicPr/>
          <p:nvPr/>
        </p:nvPicPr>
        <p:blipFill>
          <a:blip r:embed="rId2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43800" cy="1231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380520" y="2285640"/>
            <a:ext cx="3048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yle of the hou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 of clima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own personal tas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Content Placeholder 4" descr="combo.jpg"/>
          <p:cNvPicPr/>
          <p:nvPr/>
        </p:nvPicPr>
        <p:blipFill>
          <a:blip r:embed="rId2"/>
          <a:stretch/>
        </p:blipFill>
        <p:spPr>
          <a:xfrm>
            <a:off x="3581280" y="1676520"/>
            <a:ext cx="4973760" cy="3730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9:07:19Z</dcterms:created>
  <dc:creator>rtc02</dc:creator>
  <dc:description/>
  <dc:language>en-US</dc:language>
  <cp:lastModifiedBy>rtc02</cp:lastModifiedBy>
  <dcterms:modified xsi:type="dcterms:W3CDTF">2009-06-17T20:05:49Z</dcterms:modified>
  <cp:revision>12</cp:revision>
  <dc:subject/>
  <dc:title>What Types of Roofs Did I see on My Road Trip?</dc:title>
</cp:coreProperties>
</file>